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E49-ED33-4CC1-8A30-F6F3E058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794-3DE6-434E-8D7A-A6CAC273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996-3AE9-4A13-8882-3EE22424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EE0-65B0-49C3-98E3-DDC80C5D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6831-57BA-48CF-8656-160C1EA4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0064-67CC-4D7B-9A20-C006EAB3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1A5E-5B1F-404B-A5F3-C6EA72A6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D1F6-CF92-4E8C-BEFF-05D761C3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9829-86C2-4084-AB17-E97B18D6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0DF8-AE86-428F-9E8E-E5FE0648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1B4D-FAB9-4082-87F4-62C7353F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1E8-39A5-4BDC-BE76-1450495A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5E21-84EF-4AE4-B67A-A1DA78EA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6270-3706-4EC1-B950-A444E88B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033E-691C-42F4-ABD1-E70EFF40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5DE0-401B-471C-B8D6-99C2E134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6F7F-5BEF-4E83-B2C4-80A213C9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0B2C-1C40-4AC3-B963-EF8B16C9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2030-DFFC-4CE8-9DDD-BA17281D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EEE0-6EA5-4050-B815-A1F499D6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3BA9F-82BC-4AFA-B39B-4845583F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4434-796F-45C6-975A-E0FBB6E9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D17-88DE-4E6C-8571-150E0016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8C4C-D668-436E-91F0-BCCADD5A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E0BB5-1B16-4604-B624-4CC1A67E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E8F6D-49DC-4D7A-8DC5-4F188BA9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8EAF-5158-4636-A1C6-19FEB639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5308-3155-4A72-8730-1C52AB40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B46C-7579-4816-95BA-5EC94539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FAB3F-C9D8-4C28-AD85-F38D2222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4318-1DBA-4D51-B1F8-3E64764E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4D169-D035-4743-97C0-13B20D90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8BEB-C08D-4F36-A2E2-98A54E7C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740-D47E-4B4C-92A7-988FC207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49238-9271-45C4-B473-CAABA973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C1AE3-CD82-48F1-BF31-6A82E551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D84B-8A27-497E-BFD5-ED9872C8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04E0B-40C3-4900-AFF2-6F13449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C5FF1-C616-4B1C-9478-AC2C2B55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3C72B-D3F2-4469-92FB-5CC93DA6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454B-5C8E-4863-8DA0-09FCDFEC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BEF8-8A06-43EB-8B8F-FAAE99E2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92ED-2E14-4AA5-850D-0BBBA758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09E-DF87-4BDB-B2E4-100523E8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6AA-822E-4D98-A44C-BE58AC7E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1DC-41F6-4F1A-B653-BCAEAAB7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E7C-014D-4BF9-AE52-CDBAD4A4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D1F-99C1-496E-AF21-BEA015E9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3454-4590-4E14-B76C-3F912A8EBFC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CC54-FC1C-4CFE-9F21-B2C8E7C1FC1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EC5F-A4C9-4570-8941-22023CD0F6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E99A-EBA3-4C9F-90E8-4E89433A16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Spreadsheet Design Rul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057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iction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For every variable in the spread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ll range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is (Raw Data, Statistical Summary, Calculated Variable, Score etc.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.g. Integer, Text, Currency, Date, etc.) an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escription of the data or what it's 'purpose' is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Data Dictionary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4E83-D286-462F-ADDC-49C686E266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Data Dictionar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6AE0-36CB-469D-9D47-4238251B8C4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609480" y="579132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17b"/>
                </a:solidFill>
                <a:latin typeface="Arial"/>
              </a:rPr>
              <a:t>Exercise: Complete the previou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3520" y="1981080"/>
          <a:ext cx="8001000" cy="3581640"/>
        </p:xfrm>
        <a:graphic>
          <a:graphicData uri="http://schemas.openxmlformats.org/drawingml/2006/table">
            <a:tbl>
              <a:tblPr/>
              <a:tblGrid>
                <a:gridCol w="1066680"/>
                <a:gridCol w="2171880"/>
                <a:gridCol w="1028520"/>
                <a:gridCol w="914400"/>
                <a:gridCol w="2819520"/>
              </a:tblGrid>
              <a:tr h="349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A1:A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of Ele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B1:B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sitting presid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!C1:C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For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vote for incumb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DIsposable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!A2:A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1PredictionsforIncumbentAdvan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 Advantage as predicted by Model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between predicted advantage in model 1 and the true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 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squared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!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Error Square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Square Error for Model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w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Present your raw data in tabular form --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s representing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s representing c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EB87-71DA-4F2C-8D70-46C08DF86A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838080" y="2819520"/>
          <a:ext cx="7467840" cy="3281400"/>
        </p:xfrm>
        <a:graphic>
          <a:graphicData uri="http://schemas.openxmlformats.org/drawingml/2006/table">
            <a:tbl>
              <a:tblPr/>
              <a:tblGrid>
                <a:gridCol w="717840"/>
                <a:gridCol w="1106280"/>
                <a:gridCol w="2065320"/>
                <a:gridCol w="1962360"/>
                <a:gridCol w="1616040"/>
              </a:tblGrid>
              <a:tr h="436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eFor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DIsposable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how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ph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93464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d 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Statistic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 variab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5A44-C8E3-4D0F-9897-AB94406C88B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3124080"/>
          <a:ext cx="7619760" cy="2897280"/>
        </p:xfrm>
        <a:graphic>
          <a:graphicData uri="http://schemas.openxmlformats.org/drawingml/2006/table">
            <a:tbl>
              <a:tblPr/>
              <a:tblGrid>
                <a:gridCol w="3886200"/>
                <a:gridCol w="1371600"/>
                <a:gridCol w="23619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1Predictionsfor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1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50019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9277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6653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3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3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5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3415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7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78958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52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499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76452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93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porting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BC1E-D0FE-426B-BAC0-DD90AC6D44D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58831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other model (model2) for predicting vote for Incumbent  based on the formu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ForIncumbent = 2.4283(ChangeDisposableIncome) + 46.567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appropriate changes i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predicted value, error, error squared, mean square erro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Dictionary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descriptions of the new variables to the data dictionar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and Assumption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new formula and an explanation to i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F735-D2BC-4628-BCC4-B989549A66A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nt.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your name, Date, and what changes you mad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the chart for Predicted value for vote in Model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nt: you can copy and paste the chart of model 1. Then, you would have to change the Data series, axis titles, and chart tit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 statement that summaries your conclusion about each cha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4C3B-DA86-4057-B6BD-54DE6BAA94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8893-9929-4BCA-AC49-4602324023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3915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ortant No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Miscondu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AB6C-66DF-4AD5-BCE3-215ED71E2EE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als for To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e visual el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Familiar with basic design ru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659E-2412-45C1-ADE3-7E8C43D01D1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skills you will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ference a cell D2 in another sheet e.g.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!$D$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ference a range D2:D9 in another sheet e.g.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!$D$2:$D$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keyboard shortcu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: ctrl + 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: ctrl + x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: ctrl +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ll: ctrl+ 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o: ctrl + 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499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: ctrl + 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6E8B-C3ED-4ABE-B903-53752EDDFAA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Design Ru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5000"/>
            <a:ext cx="822960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spreadsheet on paper fir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edit your calculation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components of a calculation visi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 The reader should not go over the cell to know the number you multiplied b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4721-DCE2-4EAB-9D97-4DC02F5E641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sic Design Rules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ware of the "space" or "geography" of the spreadsheet. Arrange your information so that it is well spaced and easy to take in at a glan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use as many sheets as you c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give meaningful names to columns, rows, and shee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rap text, shrink to fit, and merge cel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better visualization for tex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8227-0AC4-4C51-9C2F-EC47C8AC415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3D92-A4CB-463B-88CF-7584E011D8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295280"/>
          <a:ext cx="8763120" cy="457200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  <a:gridCol w="876600"/>
                <a:gridCol w="876240"/>
                <a:gridCol w="876240"/>
                <a:gridCol w="876240"/>
                <a:gridCol w="876240"/>
                <a:gridCol w="876240"/>
                <a:gridCol w="876600"/>
                <a:gridCol w="876240"/>
              </a:tblGrid>
              <a:tr h="1122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teForIncumb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DIsposableInc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1PredictionsforIncumbentAdva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 1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 1 Error Squ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2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ve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392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isenhow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5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26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03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5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3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phr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76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7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9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2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4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Error Square for Mod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76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What is this spreadsheet or workbook abou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Introduction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1A78-F985-4F08-B032-AFC99B80635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2357280"/>
          <a:ext cx="7543800" cy="4043520"/>
        </p:xfrm>
        <a:graphic>
          <a:graphicData uri="http://schemas.openxmlformats.org/drawingml/2006/table">
            <a:tbl>
              <a:tblPr/>
              <a:tblGrid>
                <a:gridCol w="1122480"/>
                <a:gridCol w="583920"/>
                <a:gridCol w="582840"/>
                <a:gridCol w="584280"/>
                <a:gridCol w="583920"/>
                <a:gridCol w="584280"/>
                <a:gridCol w="582840"/>
                <a:gridCol w="583920"/>
                <a:gridCol w="584280"/>
                <a:gridCol w="584280"/>
                <a:gridCol w="582480"/>
                <a:gridCol w="584280"/>
              </a:tblGrid>
              <a:tr h="274680">
                <a:tc gridSpan="5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: Political Control of the Econo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11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spreadsheet is based on a Data Set by Edward R Tufte gathered from U.S. Presidential elections between 198 and 1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Tufte's data we look at Incumbent Advantage in terms of Change in Real Disposable 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Political Control of the Econom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Edward, R. Tuf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 University Press, 1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121 to 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Sourc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5.5 from above reference, pp. 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1"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Dina Said in Jan 27, 2009 to be used in CPSC 203, week 2-lab 2 as a sample of a well-designed work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arts of a Well Designed Spreadshee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4617b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and Assump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Open ModelAndAssumptions sheet in Sample workshe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EEA7-3854-4F59-8700-143CE51981C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5800" y="2743200"/>
          <a:ext cx="7086600" cy="3660840"/>
        </p:xfrm>
        <a:graphic>
          <a:graphicData uri="http://schemas.openxmlformats.org/drawingml/2006/table">
            <a:tbl>
              <a:tblPr/>
              <a:tblGrid>
                <a:gridCol w="708120"/>
                <a:gridCol w="709560"/>
                <a:gridCol w="708120"/>
                <a:gridCol w="709560"/>
                <a:gridCol w="708120"/>
                <a:gridCol w="707760"/>
                <a:gridCol w="709560"/>
                <a:gridCol w="708120"/>
                <a:gridCol w="709560"/>
                <a:gridCol w="708120"/>
              </a:tblGrid>
              <a:tr h="2858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&amp; Assu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gridSpan="10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developed a linear Model with" IncumbentAdvantage" as a Function of "ChangeDisposableIncome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Formula i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mbentAdvantage = 0.1456ChangeDisposableIncome - 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R-Squared i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ump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Assume a linear Model is Appropri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gridSpan="8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n the dispersion of the data, and low R-Squared -- this assumption may not be val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1-28T06:52:02Z</dcterms:modified>
  <cp:revision>159</cp:revision>
  <dc:subject/>
  <dc:title>CPSC 203</dc:title>
</cp:coreProperties>
</file>